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267D-A9DC-4C33-9B53-445B8AED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B2D4-0EC8-48FB-8E9B-1328D28EF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2084-E642-4C19-A33D-D6DBD35B6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CAA6-A0E1-435D-9BC9-6FCBAAEE4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514E0-8774-4A13-92BB-2D074D9D5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1866-5D29-448B-AF26-938C5128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1DD25-D20F-45C1-8DCF-273169F11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AD56-2541-44B6-BAA5-A4FB78E5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7B14-79E8-4C60-BB42-86F12D02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9DD1-F573-4785-95B1-08E4851B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52843-2679-4D3F-B351-F306B996E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0387-2EF7-46E0-AA45-98D238CA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F7DC-7E34-4687-8154-A273C569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0A3B-9009-4B55-ADF6-9E364C47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55B59-D696-4F8E-A917-8026CF52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8B6B-68BF-4636-9CA6-8C13276DB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95CF6-58BB-48BB-B008-C29B8389B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45C-AF39-438F-851E-E334D901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2DB9-80D8-41B9-A6D2-53E7EB86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A454-376B-408C-A765-0834BE0DB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7AF-4F07-4230-BECD-D5435F3C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C93F-1ED2-4A11-AC0F-C4520890F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D5BA-2156-4881-BCE9-567A460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6211-D2B8-4D32-831C-B7B402071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B34B9-D562-4A87-BAC2-CF019DC311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6925a"/>
            </a:gs>
            <a:gs pos="100000">
              <a:srgbClr val="6fb56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2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3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4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5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6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7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8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69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a9a5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0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1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33543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305232"/>
                </a:gs>
                <a:gs pos="100000">
                  <a:srgbClr val="5692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56925a"/>
                </a:gs>
                <a:gs pos="50000">
                  <a:srgbClr val="6fb56d"/>
                </a:gs>
                <a:gs pos="100000">
                  <a:srgbClr val="56925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5a9a5f"/>
                </a:gs>
                <a:gs pos="100000">
                  <a:srgbClr val="6fb5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ffffff"/>
                </a:solidFill>
                <a:latin typeface="Comic Sans MS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ff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8C2C-381D-4547-94B9-5AF7B01B9C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4" descr="j0234759"/>
          <p:cNvPicPr/>
          <p:nvPr/>
        </p:nvPicPr>
        <p:blipFill>
          <a:blip r:embed="rId1"/>
          <a:stretch/>
        </p:blipFill>
        <p:spPr>
          <a:xfrm>
            <a:off x="3348000" y="2565360"/>
            <a:ext cx="2160720" cy="277812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8637480" cy="15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GB" sz="6600" spc="-1" strike="noStrike">
                <a:solidFill>
                  <a:srgbClr val="ffffcc"/>
                </a:solidFill>
                <a:latin typeface="Comic Sans MS"/>
              </a:rPr>
              <a:t>PLANTS</a:t>
            </a:r>
            <a:endParaRPr b="1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only grow well in the right condi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Temperatures that are too cold or too hot may affect how the plant gro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6" descr="HH00446_"/>
          <p:cNvPicPr/>
          <p:nvPr/>
        </p:nvPicPr>
        <p:blipFill>
          <a:blip r:embed="rId1"/>
          <a:stretch/>
        </p:blipFill>
        <p:spPr>
          <a:xfrm>
            <a:off x="539640" y="1628640"/>
            <a:ext cx="3533760" cy="44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10" descr="NA00002_"/>
          <p:cNvPicPr/>
          <p:nvPr/>
        </p:nvPicPr>
        <p:blipFill>
          <a:blip r:embed="rId1"/>
          <a:stretch/>
        </p:blipFill>
        <p:spPr>
          <a:xfrm>
            <a:off x="1332000" y="4365720"/>
            <a:ext cx="1803240" cy="17589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8" descr="SO00085_"/>
          <p:cNvPicPr/>
          <p:nvPr/>
        </p:nvPicPr>
        <p:blipFill>
          <a:blip r:embed="rId2"/>
          <a:stretch/>
        </p:blipFill>
        <p:spPr>
          <a:xfrm>
            <a:off x="1403280" y="1844640"/>
            <a:ext cx="1766880" cy="176688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7" name="Picture 12" descr="HH02192_"/>
          <p:cNvPicPr/>
          <p:nvPr/>
        </p:nvPicPr>
        <p:blipFill>
          <a:blip r:embed="rId3"/>
          <a:stretch/>
        </p:blipFill>
        <p:spPr>
          <a:xfrm>
            <a:off x="4932360" y="1844640"/>
            <a:ext cx="202248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3" descr="HH00446_"/>
          <p:cNvPicPr/>
          <p:nvPr/>
        </p:nvPicPr>
        <p:blipFill>
          <a:blip r:embed="rId4"/>
          <a:stretch/>
        </p:blipFill>
        <p:spPr>
          <a:xfrm>
            <a:off x="5148360" y="4365720"/>
            <a:ext cx="1509480" cy="18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0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0" name="Picture 6" descr="SO00085_"/>
          <p:cNvPicPr/>
          <p:nvPr/>
        </p:nvPicPr>
        <p:blipFill>
          <a:blip r:embed="rId1"/>
          <a:stretch/>
        </p:blipFill>
        <p:spPr>
          <a:xfrm>
            <a:off x="2627280" y="1844640"/>
            <a:ext cx="1766880" cy="1766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NA00002_"/>
          <p:cNvPicPr/>
          <p:nvPr/>
        </p:nvPicPr>
        <p:blipFill>
          <a:blip r:embed="rId2"/>
          <a:stretch/>
        </p:blipFill>
        <p:spPr>
          <a:xfrm>
            <a:off x="2627280" y="3860640"/>
            <a:ext cx="1803600" cy="17589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HH02192_"/>
          <p:cNvPicPr/>
          <p:nvPr/>
        </p:nvPicPr>
        <p:blipFill>
          <a:blip r:embed="rId3"/>
          <a:stretch/>
        </p:blipFill>
        <p:spPr>
          <a:xfrm>
            <a:off x="4788000" y="1773360"/>
            <a:ext cx="1353960" cy="1790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H00446_"/>
          <p:cNvPicPr/>
          <p:nvPr/>
        </p:nvPicPr>
        <p:blipFill>
          <a:blip r:embed="rId4"/>
          <a:stretch/>
        </p:blipFill>
        <p:spPr>
          <a:xfrm>
            <a:off x="4788000" y="3716280"/>
            <a:ext cx="1509480" cy="18813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DD00864_"/>
          <p:cNvPicPr/>
          <p:nvPr/>
        </p:nvPicPr>
        <p:blipFill>
          <a:blip r:embed="rId5"/>
          <a:stretch/>
        </p:blipFill>
        <p:spPr>
          <a:xfrm>
            <a:off x="1692360" y="1125360"/>
            <a:ext cx="534492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20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cc"/>
                </a:solidFill>
                <a:latin typeface="Comic Sans MS"/>
              </a:rPr>
              <a:t>What do plants need to grow ?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768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" dur="768" fill="hold"/>
                                        <p:tgtEl>
                                          <p:spTgt spid="1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" dur="768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3333ff"/>
                </a:solidFill>
                <a:latin typeface="Comic Sans MS"/>
              </a:rPr>
              <a:t>WATER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Water is necessary for proper germination of see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water for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Picture 9" descr="SO00085_"/>
          <p:cNvPicPr/>
          <p:nvPr/>
        </p:nvPicPr>
        <p:blipFill>
          <a:blip r:embed="rId1"/>
          <a:stretch/>
        </p:blipFill>
        <p:spPr>
          <a:xfrm>
            <a:off x="755640" y="1916280"/>
            <a:ext cx="3700440" cy="3700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68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768" fill="hold"/>
                                        <p:tgtEl>
                                          <p:spTgt spid="12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4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" dur="768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Comic Sans MS"/>
              </a:rPr>
              <a:t>LIGHT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Green plants need sunlight in to make their own foo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Picture 6" descr="NA00002_"/>
          <p:cNvPicPr/>
          <p:nvPr/>
        </p:nvPicPr>
        <p:blipFill>
          <a:blip r:embed="rId1"/>
          <a:stretch/>
        </p:blipFill>
        <p:spPr>
          <a:xfrm>
            <a:off x="250920" y="1484280"/>
            <a:ext cx="4041720" cy="46180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68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68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68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996600"/>
                </a:solidFill>
                <a:latin typeface="Comic Sans MS"/>
              </a:rPr>
              <a:t>NUTRIENTS</a:t>
            </a:r>
            <a:endParaRPr b="1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ff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Comic Sans MS"/>
              </a:rPr>
              <a:t>Plants need the minerals found in soil for healthy growt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7" descr="HH02192_"/>
          <p:cNvPicPr/>
          <p:nvPr/>
        </p:nvPicPr>
        <p:blipFill>
          <a:blip r:embed="rId1"/>
          <a:stretch/>
        </p:blipFill>
        <p:spPr>
          <a:xfrm>
            <a:off x="179280" y="1628640"/>
            <a:ext cx="4357800" cy="44992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0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    </a:t>
            </a:r>
            <a:r>
              <a:rPr b="1" lang="en-GB" sz="5400" spc="-1" strike="noStrike">
                <a:solidFill>
                  <a:srgbClr val="ff9933"/>
                </a:solidFill>
                <a:latin typeface="Comic Sans MS"/>
              </a:rPr>
              <a:t>WARMTH</a:t>
            </a:r>
            <a:endParaRPr b="1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768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6" dur="768" fill="hold"/>
                                        <p:tgtEl>
                                          <p:spTgt spid="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8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0" dur="768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2:59:38Z</dcterms:created>
  <dc:creator>Sammy</dc:creator>
  <dc:description/>
  <dc:language>en-US</dc:language>
  <cp:lastModifiedBy>fiona hooper</cp:lastModifiedBy>
  <dcterms:modified xsi:type="dcterms:W3CDTF">2012-04-03T05:41:11Z</dcterms:modified>
  <cp:revision>7</cp:revision>
  <dc:subject/>
  <dc:title>PLANTS</dc:title>
</cp:coreProperties>
</file>